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926-3CDF-4F82-83C6-500C476D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87A7-8E77-4BA1-99F5-FD505AABE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AD58-5EE2-4944-A1C5-AA376E2FF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A83-5A93-4298-B19C-D2B813BE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E99-AF71-48D0-9571-48C51EAD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0BF-8A96-49D5-9784-6EA1DB4E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D371-87F4-4B34-9723-3E12716CE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190-34CF-4731-A864-07815B2D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862-DFEA-4062-801C-9061DBA9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0737-16A9-41E4-A457-8C66A954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1459-AD09-44D1-A96F-7302AF07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FEF0-05B9-4F0C-94FA-45A395F7E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0A37-4508-4F6D-BB6B-81AF84E28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064040" y="1200240"/>
            <a:ext cx="1422360" cy="100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2286000"/>
            <a:ext cx="629928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TED STATES AR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DIER SUPPORT INSTITU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 Flow of Personnel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HAND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76120"/>
            <a:ext cx="6934320" cy="65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60480"/>
            <a:ext cx="8915400" cy="65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4:11:56Z</dcterms:created>
  <dc:creator>mike.a.williams</dc:creator>
  <dc:description/>
  <dc:language>en-US</dc:language>
  <cp:lastModifiedBy>Administrator</cp:lastModifiedBy>
  <dcterms:modified xsi:type="dcterms:W3CDTF">2005-08-15T18:10:46Z</dcterms:modified>
  <cp:revision>3</cp:revision>
  <dc:subject/>
  <dc:title>Slide 1</dc:title>
</cp:coreProperties>
</file>